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1.wmf" ContentType="image/x-wmf"/>
  <Override PartName="/ppt/media/image1.jpeg" ContentType="image/jpeg"/>
  <Override PartName="/ppt/media/image5.png" ContentType="image/png"/>
  <Override PartName="/ppt/media/image19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1AE-BF67-4075-9BD3-411332B7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2B1-268D-460C-B72F-1A41019E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3D2-EE2A-43BC-AAA7-1D5BB386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FF2-765E-404C-B211-DFA64F3D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5C93-C620-431C-8D02-4D53B553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560C-8C5B-4711-A1E9-1D2FD38B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D4D6-DAE1-4FE2-9CFB-B2CFF67C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307A-C848-4C8F-9713-84C4C598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1844-EAEE-4744-83BC-65640796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F608-032D-42F2-BEFF-1E4B785B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6A45-A7B4-4309-8C05-1A828BC8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921-7011-4CEB-B6BD-B6EBB4A0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5D68-EF7E-4A8B-A08A-50E24E46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6577-1CC9-467E-A186-6106F657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94FC-62D1-4DA6-8CD4-F2B0AD2D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B95D-E606-4E06-9E2A-23DADE14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ED0B-784F-4F5E-90EA-77898474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569B-0419-402D-95B5-65F1F8B0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E36C-178E-4976-93B4-AECF6B25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2F62-2BD2-417A-8C43-3E96D5C7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9918-BCF4-4CEC-A9CD-C47BAC13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FBA1B-1EB8-4605-9F3B-196FBAAB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163-0ED3-4756-8163-3B95A94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222C-634A-48B3-B44C-42C5A240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C729-D25F-4630-A438-61160484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75E5-36A0-4728-B024-59D5AEC8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3641-A63A-49AB-931F-F66D5648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475E-ACB7-465F-8DD1-56FDDA33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0B61C-827F-4B21-AA7F-B99637C8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E4D9-B016-4D9E-879C-20E74477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A0E3-3F1E-4805-B74B-A5040E26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9BCB8-2964-4668-A0B9-8DD1416E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F1AE-AFD7-46BF-9675-96DE6F5A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958-325C-4213-B291-AC68B70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2DE5-42F7-4D80-8207-5660EB7E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183D3-A0AF-470F-8B77-BFBC2065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623ED-461B-4B8A-9A03-5A65B13A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5F644-BF8F-49A8-905B-FB15DB78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909E0-6C32-461F-B425-673CC687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258ED-1158-4DCE-97EF-F26F1F9A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CA22-F728-428E-A1AF-5F0B4E9A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C2420-2883-48CB-88D3-DECFACE7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CC4E9-CAD2-438F-BD30-750C0F78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89923-F74D-4819-9275-BFD658CC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7C6-799F-4DDE-A384-323142A0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B136-A881-4FD2-8C18-AABD4256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7E2AC-D9D4-42E7-8624-6ED21ED9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4246-CCD0-488B-ADC9-0B8E3931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A2180-EDDC-419C-8971-F0404125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7CF24-1EAA-4B3F-9C15-D6E60A23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1312B-BE64-4CD5-A68A-51188503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E72FF-EB33-4B26-87D7-DE047641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7AECA-07FA-47E9-B37D-F4D2396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2EEDB-23E9-47DC-9304-A469932D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C42FF-5A22-4A97-93CD-FB6115C9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F94-D929-4BEA-BA59-610EA12B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AE14A-4FD3-4DCA-9FAC-48EDA9D6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BC088-9575-4892-81D2-639D31CD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333D0-00FA-4928-8B9E-54EAE719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E3064-15A5-4F1F-88DB-2BD510D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546E4-41AA-4308-9BA5-62F0EAB9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83880-5947-4BC4-AA91-DC2DA8CE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3E236-9EB6-4157-9268-839802D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17E1D-5A48-4053-93FF-535BABF7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745F7-B69C-4C5F-96F6-4A8D7795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B26DA-26B8-4B29-AD20-6650ABEC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38B-6B8D-4AD0-8F5C-8E607627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95A98-15BB-4F9F-AE95-E4923F4D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F762D-55E2-414A-B4E9-8462A451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567D7-8D1D-4905-BD5E-41BF26A3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235A-3EE2-422E-9EBA-05B878C7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14BD4-4584-48ED-8DBD-8C27FE9D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FB6CB-5BD4-452D-BAE6-612FE539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FE7BB-F523-4CF8-8151-4D793DF7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E4A93-FF4F-40CC-8E07-CAEB7EB3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526E9-C30A-4899-A6C4-82312719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07391-56C1-4930-B235-7080AF80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2AD-4C88-4298-B927-DA9D3E19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4C913-31A0-4A24-B61E-C6CE0AFF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AD505-BE8F-4834-B266-F7CCF3A3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C0348-2240-4D7A-80B8-6D84B622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A5DD4-F625-4D60-BCA8-BF85569F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B1819-41C0-4D44-981C-F284D358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9A1-7604-4D65-9099-D268CCC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9638-908D-48A2-90AB-4872E8B9A39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7038-9E61-4E35-99D0-20802786223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2430-E928-48DC-861B-23447D9796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6B5E-C3F5-4114-8C46-34F3A0FB39E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F0B9-FBB7-4058-B8DD-EB07610B50A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7484-BBA1-49E1-BC31-8D243A3A3C3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5F27-1135-4075-A408-A0820E7251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ellsalive.com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chives.nbclearn.com/portal/site/k-12/browse?cuecard=40197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ooking at Cel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 your book on page __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mission Electron Microsco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anning Electron Microsco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8298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6324480" cy="6324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3"/>
          <a:stretch/>
        </p:blipFill>
        <p:spPr>
          <a:xfrm>
            <a:off x="-609480" y="1143000"/>
            <a:ext cx="5715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ll Fea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3398760" y="2657520"/>
            <a:ext cx="3571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ll The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2640" y="1523880"/>
            <a:ext cx="7543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ree Par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Unicode MS"/>
              </a:rPr>
              <a:t>All living things are made of one or more cell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b80a"/>
                </a:solidFill>
                <a:latin typeface="Arial Unicode MS"/>
              </a:rPr>
              <a:t>Cells are the basic units of structure and function in the organism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Unicode MS"/>
              </a:rPr>
              <a:t>All cells arise from existing cell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6" descr="MMj03237650000[1]"/>
          <p:cNvPicPr/>
          <p:nvPr/>
        </p:nvPicPr>
        <p:blipFill>
          <a:blip r:embed="rId1"/>
          <a:stretch/>
        </p:blipFill>
        <p:spPr>
          <a:xfrm>
            <a:off x="7086600" y="0"/>
            <a:ext cx="1832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Gill Sans MT"/>
              </a:rPr>
              <a:t>PRO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aryotes vs. </a:t>
            </a: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EU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aryo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320" y="44953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 the three cell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te 3 differences between the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nk organelle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76168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Gill Sans MT"/>
              </a:rPr>
              <a:t>PRO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aryotes &amp; </a:t>
            </a:r>
            <a:r>
              <a:rPr b="0" lang="en-US" sz="4300" spc="-1" strike="noStrike">
                <a:solidFill>
                  <a:srgbClr val="0070c0"/>
                </a:solidFill>
                <a:latin typeface="Gill Sans MT"/>
              </a:rPr>
              <a:t>EU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aryo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Pr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aryo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Single Celled Organis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NO true nucle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karyotes have little internal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83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Eu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aryo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ill Sans MT"/>
              </a:rPr>
              <a:t>Single celled or Multi-cellular organis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ill Sans MT"/>
              </a:rPr>
              <a:t>HAVE true nucle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ill Sans MT"/>
              </a:rPr>
              <a:t>Have ORGANEL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600200" y="3876840"/>
            <a:ext cx="62229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ft S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be Similarities and Differences in Light and Electron Microscop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4495680" y="3276720"/>
            <a:ext cx="32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5305320" y="0"/>
            <a:ext cx="3838680" cy="292428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ll Membran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ll encloses t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ell and holds in the CYTOPLAS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ll membrane is a PHSOPHOLIPID BI-Lay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ll membrane regulates what enters the ce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ener 2/2/201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e day you found out that there was a great need for shoes in the world. You decided you wanted to open a shoe factory. What would need to do this??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 DESCRIPTIVE! You need a list of at least 8 component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the Metric System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279600" y="2286000"/>
            <a:ext cx="3810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ener Page ____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66680" y="121932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velop an analogy for an ANIMAL cel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must includ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ucle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ucleol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itochondr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lgi Bod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iboso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doplasmic Reticulum (Smooth &amp; Rough can be 1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ytoplas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ysosom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2" descr="C:\Program Files\Microsoft Office\MEDIA\CAGCAT10\j0285360.wmf"/>
          <p:cNvPicPr/>
          <p:nvPr/>
        </p:nvPicPr>
        <p:blipFill>
          <a:blip r:embed="rId1"/>
          <a:stretch/>
        </p:blipFill>
        <p:spPr>
          <a:xfrm>
            <a:off x="7238880" y="205740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ll Organel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cellsalive.com/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4424400" y="0"/>
            <a:ext cx="4719600" cy="274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"/>
          <p:cNvPicPr/>
          <p:nvPr/>
        </p:nvPicPr>
        <p:blipFill>
          <a:blip r:embed="rId3"/>
          <a:stretch/>
        </p:blipFill>
        <p:spPr>
          <a:xfrm>
            <a:off x="0" y="1600200"/>
            <a:ext cx="4672080" cy="3124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4"/>
          <a:stretch/>
        </p:blipFill>
        <p:spPr>
          <a:xfrm>
            <a:off x="4267080" y="3352680"/>
            <a:ext cx="4119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tric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ine the SI units in Table 1(page 50). How many meters are there in a kilometer? How many centimeters are in a mete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4" name="Picture 4" descr="C:\Documents and Settings\anthony.cappello\Local Settings\Temporary Internet Files\Content.IE5\OV57I635\MCj04419020000[1].wmf"/>
          <p:cNvPicPr/>
          <p:nvPr/>
        </p:nvPicPr>
        <p:blipFill>
          <a:blip r:embed="rId1"/>
          <a:stretch/>
        </p:blipFill>
        <p:spPr>
          <a:xfrm>
            <a:off x="5943600" y="4267080"/>
            <a:ext cx="1521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en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ONE major benefit to the metric syste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oes the metric system work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have microscopes benefitted you??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tric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etric System is the International System of measur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is based on powers of 10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might it be important to have a universal system of measure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ientist need to have a “common ground” for performing experiments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4" descr="MCj03516070000[1]"/>
          <p:cNvPicPr/>
          <p:nvPr/>
        </p:nvPicPr>
        <p:blipFill>
          <a:blip r:embed="rId1"/>
          <a:stretch/>
        </p:blipFill>
        <p:spPr>
          <a:xfrm>
            <a:off x="7086600" y="2209680"/>
            <a:ext cx="17859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croscop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archives.nbclearn.com/portal/site/k-12/browse?cuecard=40197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icroscopes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Light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Electro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1582560" y="1951200"/>
            <a:ext cx="3362400" cy="3809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5524560" y="2212920"/>
            <a:ext cx="3162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ight Microscop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1673280" y="2251080"/>
            <a:ext cx="3181320" cy="32097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ght microscopes have 2 lenses and a source of ligh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ive Lens &amp; Ocular L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lens has its own MAGNIFICA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ultiply each lens’s magnification to get the total magnif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x times 40x = 400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lectron Microscop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839960" y="2303640"/>
            <a:ext cx="2847960" cy="3105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ectrons are shot at the objec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ectrons then bounce off, or pass through the object to create an imag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magnify up to 200,000 tim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50:17Z</dcterms:created>
  <dc:creator>CUSD300</dc:creator>
  <dc:description/>
  <dc:language>en-US</dc:language>
  <cp:lastModifiedBy>CUSD300</cp:lastModifiedBy>
  <dcterms:modified xsi:type="dcterms:W3CDTF">2012-09-26T15:43:57Z</dcterms:modified>
  <cp:revision>37</cp:revision>
  <dc:subject/>
  <dc:title>Looking at Cells</dc:title>
</cp:coreProperties>
</file>